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D8F-6D6F-4D9E-988B-C937A7EC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9F8-DAB1-4399-9797-A8395768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B24-B56A-413A-8E3B-1EA350F7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FFB-6DFC-4F7E-83C0-DA004294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FFE6-43D5-4706-AB26-4DB4BE88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C46D-D982-44B9-BA9A-E8D87BE5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FDDB-AC84-42EE-9052-10B1E225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8A1F-4BC3-430D-BC8C-92D8F31A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F3FA-DA42-48A6-980A-200EAF6D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1823-0454-4632-B85D-E2154EEB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5DDA-DD2F-4BF7-A575-52A9814B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43B-C80F-4D8A-A15C-BF1AB864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6607-75A1-44C4-A8B5-A1784027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4F23-7BEC-4F4D-8E01-00B65D9F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F7BD-E4D7-4136-9141-FB8E6510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7AA1-E521-44C2-819C-287A943C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D19A-76AA-42E6-A23F-2E43FC26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710-BA63-4560-A3BC-3012B97D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64F-BEB1-468D-82A6-940B774F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192-D96A-48E0-8A3D-D3632363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25C-BCE7-4687-A774-331DFF68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7BB-E287-4EE0-A53B-7978234D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F01-B738-4DFA-89CB-6032963A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126-AA3A-4B40-B330-06B888FD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66EF-8120-4E81-8748-50DD56E66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66CF-E320-49A8-A8A2-EAAF25326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United Kingdom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4, Less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uel 9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ul Appointed K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Seeks Father’s Donkeys – 9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mpt to Find Seer – 6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alks To Samuel – 15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’s Mission for Saul: Deliver God’s People from Philist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uel Entertains Saul – 18-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 the Humility of S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ul Appointed K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For Saul’s Assurance -10: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an Foresee The Fut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’s Prophetic Words Will Give Assurance When They Are Made 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’s Heart Is Changed – 10:9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Given Another Sign – Prophesy Coming From His Own L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ul Appointed K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ship Plans Not Told His Uncle – 10:14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mbly at Mizpah – 10:17-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4548240" cy="3473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752480" y="3809880"/>
            <a:ext cx="289584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657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zp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ul Chosen As K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hysical St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Early Tim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Look On The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Live The Ki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Acceptance Was Mixed – 26,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0:32:23Z</dcterms:created>
  <dc:creator>Terry W. Benton</dc:creator>
  <dc:description/>
  <dc:language>en-US</dc:language>
  <cp:lastModifiedBy> Don Vines</cp:lastModifiedBy>
  <dcterms:modified xsi:type="dcterms:W3CDTF">2005-03-30T19:46:19Z</dcterms:modified>
  <cp:revision>2</cp:revision>
  <dc:subject/>
  <dc:title>The United Kingdom</dc:title>
</cp:coreProperties>
</file>